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A69-03A3-4F30-B4A6-AA2B031F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EFA-A0E7-4280-8AD2-BF681862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6A7-1B10-46EB-A682-F713822D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4E8-5C82-4173-AF87-7BA71567A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12E0-1ACE-47BD-9827-50451EBA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94F-E92B-495F-BFA2-2E1F53C8C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C8FE-2599-4A71-BDBA-73646C93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FEE1-A633-422F-9F0A-FF945EAAB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BFA9-8E37-4EE2-9332-9001EE45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3163-A8FE-4728-BE72-EB53492E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B01D-C70F-49E8-8B7B-CDFF963B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4AB-385C-4609-AE5C-06A4ADA60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EAC-9697-4B9D-990B-CBC8DF69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433-2D4F-4B8D-861E-FF3AC306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A587-FE75-4F59-BBD4-C67D72DB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970-F931-4C49-BA7C-E625C116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865-842B-474D-A2BE-57A230D4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2AC6-4B6E-45FD-BAB4-24A15830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0D7-8C14-4F14-A1BB-738855D4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3B34-E92E-439F-A4F8-93613606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B82F-7A3A-4ECD-8830-03AF6E931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A39-9DDC-43A6-9226-7A4A1707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437-FDBA-41B7-98B9-E00A1331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5D5-8BB3-42E5-8DF8-9FCCE33C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4C8-F530-4426-93F9-A9683569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00E-E957-4CD8-905F-D6D40700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AAD-08DF-468E-A953-35987B9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447-24B3-4A9B-B427-D236B989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4FB-3EFD-4D86-8426-A38005DB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F13-958B-4FFD-9BD8-EBEE6568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0B1-508F-4AB9-A2F6-A315A3B1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435-55FA-4389-BB75-286D173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D63-5ED7-44EF-BE57-4789304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1B1-03B1-4C4C-9658-CF3667F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3681-AC24-43AB-B87E-15E8395349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C:\Windows\Play32.exe c:\Dave\WP\Teaching\Ugrad_lects\303_cmd\MOVIES\DL_trans_TSmode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39640" y="3860640"/>
            <a:ext cx="81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ecture 3 : Equilibrium const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avid Willock Room 2.65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illockdj@cf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H2309 : Microscopic to Macroscopic Phenom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55680" y="2301840"/>
            <a:ext cx="7988400" cy="167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"/>
              <p:cNvSpPr txBox="1"/>
              <p:nvPr/>
            </p:nvSpPr>
            <p:spPr>
              <a:xfrm>
                <a:off x="3187800" y="2901960"/>
                <a:ext cx="927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760320" y="2701800"/>
                <a:ext cx="18558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182680" y="281160"/>
                <a:ext cx="2691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Text Box 8"/>
          <p:cNvSpPr/>
          <p:nvPr/>
        </p:nvSpPr>
        <p:spPr>
          <a:xfrm>
            <a:off x="5079960" y="44928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5918040" y="633240"/>
                <a:ext cx="1067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AutoShape 7"/>
          <p:cNvSpPr/>
          <p:nvPr/>
        </p:nvSpPr>
        <p:spPr>
          <a:xfrm>
            <a:off x="5079960" y="816120"/>
            <a:ext cx="317520" cy="1206360"/>
          </a:xfrm>
          <a:custGeom>
            <a:avLst/>
            <a:gdLst>
              <a:gd name="textAreaLeft" fmla="*/ 42480 w 317520"/>
              <a:gd name="textAreaRight" fmla="*/ 275040 w 317520"/>
              <a:gd name="textAreaTop" fmla="*/ 210960 h 1206360"/>
              <a:gd name="textAreaBottom" fmla="*/ 87480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8"/>
              <p:cNvSpPr txBox="1"/>
              <p:nvPr/>
            </p:nvSpPr>
            <p:spPr>
              <a:xfrm>
                <a:off x="2819520" y="1324080"/>
                <a:ext cx="1925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8"/>
          <p:cNvSpPr/>
          <p:nvPr/>
        </p:nvSpPr>
        <p:spPr>
          <a:xfrm>
            <a:off x="2629080" y="3070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4"/>
          <p:cNvSpPr/>
          <p:nvPr/>
        </p:nvSpPr>
        <p:spPr>
          <a:xfrm>
            <a:off x="495360" y="2301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g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"/>
              <p:cNvSpPr txBox="1"/>
              <p:nvPr/>
            </p:nvSpPr>
            <p:spPr>
              <a:xfrm>
                <a:off x="5397480" y="3073320"/>
                <a:ext cx="12225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 Box 94"/>
          <p:cNvSpPr/>
          <p:nvPr/>
        </p:nvSpPr>
        <p:spPr>
          <a:xfrm>
            <a:off x="647640" y="4029120"/>
            <a:ext cx="49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the Sackur-Tetrode equa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1370160" y="4606920"/>
                <a:ext cx="21571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4502160" y="4606920"/>
                <a:ext cx="1971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pΛ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Text Box 8"/>
          <p:cNvSpPr/>
          <p:nvPr/>
        </p:nvSpPr>
        <p:spPr>
          <a:xfrm>
            <a:off x="4521240" y="3070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683160" y="4886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647640" y="5654520"/>
            <a:ext cx="817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form relates the entropy to the pressure, at low pressures we see higher entropy. Remember that the thermal wavelength depends on T so the true temperature dependence of entropy for the ideal gas is ln 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96720" y="250920"/>
            <a:ext cx="83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ther thermodynamic qua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68280" y="116856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ing internal energy and entropy from the partition function allows other thermodynamic quatities to be written dow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mholtz free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595840" y="289080"/>
                <a:ext cx="245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3637080" y="2187720"/>
                <a:ext cx="13222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3720960" y="2641680"/>
                <a:ext cx="3387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3726000" y="3562200"/>
                <a:ext cx="2133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Text Box 8"/>
          <p:cNvSpPr/>
          <p:nvPr/>
        </p:nvSpPr>
        <p:spPr>
          <a:xfrm>
            <a:off x="6070680" y="349236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6664320" y="3549600"/>
                <a:ext cx="2274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Line 10"/>
          <p:cNvSpPr/>
          <p:nvPr/>
        </p:nvSpPr>
        <p:spPr>
          <a:xfrm>
            <a:off x="1854360" y="4102200"/>
            <a:ext cx="5092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330120" y="4254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2"/>
              <p:cNvSpPr txBox="1"/>
              <p:nvPr/>
            </p:nvSpPr>
            <p:spPr>
              <a:xfrm>
                <a:off x="1959120" y="4294080"/>
                <a:ext cx="3154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Text Box 17"/>
          <p:cNvSpPr/>
          <p:nvPr/>
        </p:nvSpPr>
        <p:spPr>
          <a:xfrm>
            <a:off x="380880" y="2514600"/>
            <a:ext cx="270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imes New Roman"/>
              </a:rPr>
              <a:t>Relevant to reactions at constant Temperature &amp;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8"/>
              <p:cNvSpPr txBox="1"/>
              <p:nvPr/>
            </p:nvSpPr>
            <p:spPr>
              <a:xfrm>
                <a:off x="3068640" y="5376960"/>
                <a:ext cx="13003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Text Box 19"/>
          <p:cNvSpPr/>
          <p:nvPr/>
        </p:nvSpPr>
        <p:spPr>
          <a:xfrm>
            <a:off x="4698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gas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0"/>
              <p:cNvSpPr txBox="1"/>
              <p:nvPr/>
            </p:nvSpPr>
            <p:spPr>
              <a:xfrm>
                <a:off x="6075360" y="5630760"/>
                <a:ext cx="2727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21"/>
          <p:cNvSpPr/>
          <p:nvPr/>
        </p:nvSpPr>
        <p:spPr>
          <a:xfrm>
            <a:off x="454644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304920" y="53593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al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1687680" y="5429160"/>
                <a:ext cx="1461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3586320" y="5691240"/>
                <a:ext cx="34588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TV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6" name="Line 7"/>
          <p:cNvSpPr/>
          <p:nvPr/>
        </p:nvSpPr>
        <p:spPr>
          <a:xfrm>
            <a:off x="1968480" y="5207040"/>
            <a:ext cx="5092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549360" y="700200"/>
                <a:ext cx="3154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4843440" y="817560"/>
                <a:ext cx="2727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10"/>
          <p:cNvSpPr/>
          <p:nvPr/>
        </p:nvSpPr>
        <p:spPr>
          <a:xfrm>
            <a:off x="3822840" y="838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03040" y="165096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derivative only the first term in l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s on volume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2"/>
              <p:cNvSpPr txBox="1"/>
              <p:nvPr/>
            </p:nvSpPr>
            <p:spPr>
              <a:xfrm>
                <a:off x="500040" y="2189160"/>
                <a:ext cx="29224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bSup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4549680" y="2036880"/>
                <a:ext cx="18432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4"/>
          <p:cNvSpPr/>
          <p:nvPr/>
        </p:nvSpPr>
        <p:spPr>
          <a:xfrm>
            <a:off x="3581280" y="24256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6705720" y="2197080"/>
            <a:ext cx="2235240" cy="1384200"/>
          </a:xfrm>
          <a:prstGeom prst="cloudCallout">
            <a:avLst>
              <a:gd name="adj1" fmla="val -42472"/>
              <a:gd name="adj2" fmla="val 74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6"/>
              <p:cNvSpPr txBox="1"/>
              <p:nvPr/>
            </p:nvSpPr>
            <p:spPr>
              <a:xfrm>
                <a:off x="6908760" y="2433600"/>
                <a:ext cx="1546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Text Box 18"/>
          <p:cNvSpPr/>
          <p:nvPr/>
        </p:nvSpPr>
        <p:spPr>
          <a:xfrm>
            <a:off x="330120" y="33148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9"/>
              <p:cNvSpPr txBox="1"/>
              <p:nvPr/>
            </p:nvSpPr>
            <p:spPr>
              <a:xfrm>
                <a:off x="961920" y="3200400"/>
                <a:ext cx="1414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Text Box 20"/>
          <p:cNvSpPr/>
          <p:nvPr/>
        </p:nvSpPr>
        <p:spPr>
          <a:xfrm>
            <a:off x="2654280" y="3314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3341520" y="3406680"/>
                <a:ext cx="1252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22"/>
          <p:cNvSpPr/>
          <p:nvPr/>
        </p:nvSpPr>
        <p:spPr>
          <a:xfrm>
            <a:off x="419040" y="4241880"/>
            <a:ext cx="828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= k 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have recovered the ideal gas equation from the partition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304920" y="27936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98840" y="360360"/>
                <a:ext cx="1368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563400" y="1093680"/>
                <a:ext cx="34592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TV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4782960" y="1127160"/>
                <a:ext cx="245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Text Box 6"/>
          <p:cNvSpPr/>
          <p:nvPr/>
        </p:nvSpPr>
        <p:spPr>
          <a:xfrm>
            <a:off x="330120" y="21081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995400" y="2236680"/>
                <a:ext cx="3968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V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5319720" y="311040"/>
                <a:ext cx="1461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Text Box 9"/>
          <p:cNvSpPr/>
          <p:nvPr/>
        </p:nvSpPr>
        <p:spPr>
          <a:xfrm>
            <a:off x="4432320" y="30492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17520" y="32259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deal gas: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11"/>
              <p:cNvSpPr txBox="1"/>
              <p:nvPr/>
            </p:nvSpPr>
            <p:spPr>
              <a:xfrm>
                <a:off x="2590920" y="3282840"/>
                <a:ext cx="12538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1236600" y="3919680"/>
                <a:ext cx="3181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4948200" y="3078000"/>
                <a:ext cx="130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4"/>
              <p:cNvSpPr txBox="1"/>
              <p:nvPr/>
            </p:nvSpPr>
            <p:spPr>
              <a:xfrm>
                <a:off x="1095480" y="4581360"/>
                <a:ext cx="4505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5"/>
              <p:cNvSpPr txBox="1"/>
              <p:nvPr/>
            </p:nvSpPr>
            <p:spPr>
              <a:xfrm>
                <a:off x="6845400" y="4646520"/>
                <a:ext cx="21016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Text Box 16"/>
          <p:cNvSpPr/>
          <p:nvPr/>
        </p:nvSpPr>
        <p:spPr>
          <a:xfrm>
            <a:off x="5607000" y="422928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irling’s 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7"/>
              <p:cNvSpPr txBox="1"/>
              <p:nvPr/>
            </p:nvSpPr>
            <p:spPr>
              <a:xfrm>
                <a:off x="1065240" y="5153040"/>
                <a:ext cx="5456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1109520" y="5657760"/>
                <a:ext cx="31575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Text Box 19"/>
          <p:cNvSpPr/>
          <p:nvPr/>
        </p:nvSpPr>
        <p:spPr>
          <a:xfrm>
            <a:off x="4495680" y="584208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1 mo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0"/>
              <p:cNvSpPr txBox="1"/>
              <p:nvPr/>
            </p:nvSpPr>
            <p:spPr>
              <a:xfrm>
                <a:off x="6110280" y="5862600"/>
                <a:ext cx="2576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axial_equi"/>
          <p:cNvPicPr/>
          <p:nvPr/>
        </p:nvPicPr>
        <p:blipFill>
          <a:blip r:embed="rId1"/>
          <a:stretch/>
        </p:blipFill>
        <p:spPr>
          <a:xfrm>
            <a:off x="-254160" y="1193760"/>
            <a:ext cx="4775400" cy="49579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5"/>
          <p:cNvSpPr/>
          <p:nvPr/>
        </p:nvSpPr>
        <p:spPr>
          <a:xfrm>
            <a:off x="2298600" y="939960"/>
            <a:ext cx="684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ethyl: Equitori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xial 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1 k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80880" y="241200"/>
            <a:ext cx="84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quilibrium constants: Simple case A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7"/>
              <p:cNvSpPr txBox="1"/>
              <p:nvPr/>
            </p:nvSpPr>
            <p:spPr>
              <a:xfrm>
                <a:off x="5470560" y="1876320"/>
                <a:ext cx="3297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u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u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qui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Text Box 8"/>
          <p:cNvSpPr/>
          <p:nvPr/>
        </p:nvSpPr>
        <p:spPr>
          <a:xfrm>
            <a:off x="4368960" y="19303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acta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9"/>
              <p:cNvSpPr txBox="1"/>
              <p:nvPr/>
            </p:nvSpPr>
            <p:spPr>
              <a:xfrm>
                <a:off x="5616720" y="2471760"/>
                <a:ext cx="2901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Text Box 10"/>
          <p:cNvSpPr/>
          <p:nvPr/>
        </p:nvSpPr>
        <p:spPr>
          <a:xfrm>
            <a:off x="4394160" y="251460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572000" y="3048120"/>
            <a:ext cx="415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2"/>
              <p:cNvSpPr txBox="1"/>
              <p:nvPr/>
            </p:nvSpPr>
            <p:spPr>
              <a:xfrm>
                <a:off x="3828960" y="3247920"/>
                <a:ext cx="51087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sup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3"/>
              <p:cNvSpPr txBox="1"/>
              <p:nvPr/>
            </p:nvSpPr>
            <p:spPr>
              <a:xfrm>
                <a:off x="4605480" y="3800520"/>
                <a:ext cx="3251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1" name="AutoShape 14"/>
          <p:cNvSpPr/>
          <p:nvPr/>
        </p:nvSpPr>
        <p:spPr>
          <a:xfrm rot="16200000">
            <a:off x="5613480" y="4470120"/>
            <a:ext cx="355320" cy="850680"/>
          </a:xfrm>
          <a:custGeom>
            <a:avLst/>
            <a:gdLst>
              <a:gd name="textAreaLeft" fmla="*/ 227160 w 355320"/>
              <a:gd name="textAreaRight" fmla="*/ 355680 w 35532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5130360" y="5067360"/>
            <a:ext cx="6606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3881520" y="5554800"/>
                <a:ext cx="13683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3859200" y="6026040"/>
                <a:ext cx="14619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Text Box 18"/>
          <p:cNvSpPr/>
          <p:nvPr/>
        </p:nvSpPr>
        <p:spPr>
          <a:xfrm>
            <a:off x="3213000" y="603252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5384880" y="574056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g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0"/>
              <p:cNvSpPr txBox="1"/>
              <p:nvPr/>
            </p:nvSpPr>
            <p:spPr>
              <a:xfrm>
                <a:off x="6469200" y="5783400"/>
                <a:ext cx="1577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21"/>
              <p:cNvSpPr txBox="1"/>
              <p:nvPr/>
            </p:nvSpPr>
            <p:spPr>
              <a:xfrm>
                <a:off x="7491240" y="6167520"/>
                <a:ext cx="1438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533520" y="1638360"/>
            <a:ext cx="7772400" cy="48387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"/>
          <p:cNvSpPr/>
          <p:nvPr/>
        </p:nvSpPr>
        <p:spPr>
          <a:xfrm>
            <a:off x="2592000" y="22860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 + H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 +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"/>
          <p:cNvSpPr/>
          <p:nvPr/>
        </p:nvSpPr>
        <p:spPr>
          <a:xfrm>
            <a:off x="3886200" y="457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838080" y="38480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7238880" y="39243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"/>
          <p:cNvSpPr/>
          <p:nvPr/>
        </p:nvSpPr>
        <p:spPr>
          <a:xfrm>
            <a:off x="2666880" y="50007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>
            <a:off x="5334120" y="6143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"/>
          <p:cNvSpPr/>
          <p:nvPr/>
        </p:nvSpPr>
        <p:spPr>
          <a:xfrm flipV="1">
            <a:off x="6172200" y="507672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6477120" y="5381640"/>
            <a:ext cx="2666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294.9 - 427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132.8 kJ 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2"/>
              <p:cNvSpPr txBox="1"/>
              <p:nvPr/>
            </p:nvSpPr>
            <p:spPr>
              <a:xfrm>
                <a:off x="5477040" y="866880"/>
                <a:ext cx="3414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rod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act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9" name="Line 13"/>
          <p:cNvSpPr/>
          <p:nvPr/>
        </p:nvSpPr>
        <p:spPr>
          <a:xfrm flipV="1">
            <a:off x="2921040" y="2587320"/>
            <a:ext cx="0" cy="237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190440" y="5305320"/>
            <a:ext cx="3683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 can be obtained from bond energy differences, note inclusion of zero point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2082960" y="3108240"/>
            <a:ext cx="88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V="1">
            <a:off x="5575320" y="2638080"/>
            <a:ext cx="0" cy="34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5549760" y="309564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3975120" y="108900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gene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295200" y="270000"/>
                <a:ext cx="3413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rod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act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6"/>
          <p:cNvSpPr/>
          <p:nvPr/>
        </p:nvSpPr>
        <p:spPr>
          <a:xfrm>
            <a:off x="279360" y="1320840"/>
            <a:ext cx="486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the link to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quilibrium consta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4600440" y="1301760"/>
                <a:ext cx="2065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8"/>
              <p:cNvSpPr txBox="1"/>
              <p:nvPr/>
            </p:nvSpPr>
            <p:spPr>
              <a:xfrm>
                <a:off x="709560" y="1933560"/>
                <a:ext cx="4133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rod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act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1370160" y="2975040"/>
                <a:ext cx="3041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rod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act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79480" y="4118040"/>
                <a:ext cx="2855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rod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act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Δ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1" name="AutoShape 11"/>
          <p:cNvSpPr/>
          <p:nvPr/>
        </p:nvSpPr>
        <p:spPr>
          <a:xfrm>
            <a:off x="4762440" y="3251160"/>
            <a:ext cx="317520" cy="1778040"/>
          </a:xfrm>
          <a:custGeom>
            <a:avLst/>
            <a:gdLst>
              <a:gd name="textAreaLeft" fmla="*/ 42480 w 317520"/>
              <a:gd name="textAreaRight" fmla="*/ 275040 w 317520"/>
              <a:gd name="textAreaTop" fmla="*/ 311040 h 1778040"/>
              <a:gd name="textAreaBottom" fmla="*/ 128916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5270400" y="37339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3"/>
              <p:cNvSpPr txBox="1"/>
              <p:nvPr/>
            </p:nvSpPr>
            <p:spPr>
              <a:xfrm>
                <a:off x="6305400" y="3308400"/>
                <a:ext cx="16257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15"/>
              <p:cNvSpPr txBox="1"/>
              <p:nvPr/>
            </p:nvSpPr>
            <p:spPr>
              <a:xfrm>
                <a:off x="5915160" y="4235400"/>
                <a:ext cx="301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Text Box 16"/>
          <p:cNvSpPr/>
          <p:nvPr/>
        </p:nvSpPr>
        <p:spPr>
          <a:xfrm>
            <a:off x="304920" y="521964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equilibrium constant depends on the energy difference between the reactants and products and the ratio of the partition functions for reactants and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380880" y="38088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The transi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19040" y="973080"/>
            <a:ext cx="83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ransition state theory the reaction is thought to proceed through an extremely short lived structure which is at the highest point along the reaction pathway between reactants and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"/>
          <p:cNvSpPr/>
          <p:nvPr/>
        </p:nvSpPr>
        <p:spPr>
          <a:xfrm>
            <a:off x="1467000" y="3149640"/>
            <a:ext cx="6419880" cy="3057480"/>
          </a:xfrm>
          <a:custGeom>
            <a:avLst/>
            <a:gdLst>
              <a:gd name="textAreaLeft" fmla="*/ 0 w 6419880"/>
              <a:gd name="textAreaRight" fmla="*/ 6420240 w 6419880"/>
              <a:gd name="textAreaTop" fmla="*/ 0 h 3057480"/>
              <a:gd name="textAreaBottom" fmla="*/ 3057840 h 3057480"/>
            </a:gdLst>
            <a:ahLst/>
            <a:rect l="textAreaLeft" t="textAreaTop" r="textAreaRight" b="textAreaBottom"/>
            <a:pathLst>
              <a:path w="4044" h="1926">
                <a:moveTo>
                  <a:pt x="0" y="1268"/>
                </a:moveTo>
                <a:cubicBezTo>
                  <a:pt x="232" y="1295"/>
                  <a:pt x="464" y="1322"/>
                  <a:pt x="648" y="1268"/>
                </a:cubicBezTo>
                <a:cubicBezTo>
                  <a:pt x="832" y="1214"/>
                  <a:pt x="962" y="1112"/>
                  <a:pt x="1104" y="944"/>
                </a:cubicBezTo>
                <a:cubicBezTo>
                  <a:pt x="1246" y="776"/>
                  <a:pt x="1360" y="416"/>
                  <a:pt x="1500" y="260"/>
                </a:cubicBezTo>
                <a:cubicBezTo>
                  <a:pt x="1640" y="104"/>
                  <a:pt x="1796" y="16"/>
                  <a:pt x="1944" y="8"/>
                </a:cubicBezTo>
                <a:cubicBezTo>
                  <a:pt x="2092" y="0"/>
                  <a:pt x="2266" y="84"/>
                  <a:pt x="2388" y="212"/>
                </a:cubicBezTo>
                <a:cubicBezTo>
                  <a:pt x="2510" y="340"/>
                  <a:pt x="2582" y="572"/>
                  <a:pt x="2676" y="776"/>
                </a:cubicBezTo>
                <a:cubicBezTo>
                  <a:pt x="2770" y="980"/>
                  <a:pt x="2856" y="1256"/>
                  <a:pt x="2952" y="1436"/>
                </a:cubicBezTo>
                <a:cubicBezTo>
                  <a:pt x="3048" y="1616"/>
                  <a:pt x="3118" y="1786"/>
                  <a:pt x="3252" y="1856"/>
                </a:cubicBezTo>
                <a:cubicBezTo>
                  <a:pt x="3386" y="1926"/>
                  <a:pt x="3624" y="1874"/>
                  <a:pt x="3756" y="1856"/>
                </a:cubicBezTo>
                <a:cubicBezTo>
                  <a:pt x="3888" y="1838"/>
                  <a:pt x="3996" y="1766"/>
                  <a:pt x="4044" y="17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5"/>
          <p:cNvGraphicFramePr/>
          <p:nvPr/>
        </p:nvGraphicFramePr>
        <p:xfrm>
          <a:off x="1616040" y="4092480"/>
          <a:ext cx="80496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092480"/>
                    <a:ext cx="804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5575320" y="2577960"/>
          <a:ext cx="113040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5320" y="2577960"/>
                    <a:ext cx="1130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7"/>
          <p:cNvGraphicFramePr/>
          <p:nvPr/>
        </p:nvGraphicFramePr>
        <p:xfrm>
          <a:off x="6675480" y="4873680"/>
          <a:ext cx="744480" cy="84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75480" y="4873680"/>
                    <a:ext cx="7444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Text Box 8"/>
          <p:cNvSpPr/>
          <p:nvPr/>
        </p:nvSpPr>
        <p:spPr>
          <a:xfrm>
            <a:off x="1143000" y="544824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4229280" y="251460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6705720" y="617220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"/>
          <p:cNvSpPr/>
          <p:nvPr/>
        </p:nvSpPr>
        <p:spPr>
          <a:xfrm flipV="1">
            <a:off x="1695600" y="5105160"/>
            <a:ext cx="308592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rc 3"/>
          <p:cNvSpPr/>
          <p:nvPr/>
        </p:nvSpPr>
        <p:spPr>
          <a:xfrm rot="5400000">
            <a:off x="4000320" y="1834920"/>
            <a:ext cx="1143000" cy="1486080"/>
          </a:xfrm>
          <a:custGeom>
            <a:avLst/>
            <a:gdLst>
              <a:gd name="textAreaLeft" fmla="*/ 502560 w 1143000"/>
              <a:gd name="textAreaRight" fmla="*/ 1143360 w 114300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stroke="0" w="1143000" h="1485900">
                <a:moveTo>
                  <a:pt x="571501" y="0"/>
                </a:moveTo>
                <a:lnTo>
                  <a:pt x="571501" y="0"/>
                </a:lnTo>
                <a:arcTo wR="571500" hR="742950" stAng="-5399995" swAng="11119943"/>
                <a:lnTo>
                  <a:pt x="571500" y="742950"/>
                </a:lnTo>
                <a:close/>
              </a:path>
              <a:path fill="none" w="1143000" h="1485900">
                <a:moveTo>
                  <a:pt x="571501" y="0"/>
                </a:moveTo>
                <a:lnTo>
                  <a:pt x="571501" y="0"/>
                </a:lnTo>
                <a:arcTo wR="571500" hR="742950" stAng="-5399995" swAng="1111994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5"/>
          <p:cNvSpPr/>
          <p:nvPr/>
        </p:nvSpPr>
        <p:spPr>
          <a:xfrm flipV="1">
            <a:off x="2228760" y="2946240"/>
            <a:ext cx="308628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Arrow Connector 5"/>
          <p:cNvCxnSpPr/>
          <p:nvPr/>
        </p:nvCxnSpPr>
        <p:spPr>
          <a:xfrm>
            <a:off x="2349000" y="5994000"/>
            <a:ext cx="356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Text Box 8"/>
          <p:cNvSpPr/>
          <p:nvPr/>
        </p:nvSpPr>
        <p:spPr>
          <a:xfrm>
            <a:off x="2819520" y="6058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co-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1371600" y="241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degrees of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Straight Arrow Connector 21"/>
          <p:cNvCxnSpPr/>
          <p:nvPr/>
        </p:nvCxnSpPr>
        <p:spPr>
          <a:xfrm flipV="1">
            <a:off x="3543120" y="2971440"/>
            <a:ext cx="1080" cy="214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3532320" y="4189320"/>
                <a:ext cx="593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‡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95280" y="1457280"/>
            <a:ext cx="8497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re is a specific chemical species known as the transition state through which reactants must pass to reach the product state, C in the generic exampl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ce the transition state in a reaction is formed the probability of obtaining product is 1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rate of conversion of transition state structures to product can be estimated based on the equipartition of energ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T / h, wher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ate at which TS transforms to produc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e concentration of the TS species can be calculated assuming it is in thermal equilibrium with the reac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ssumptions of Transition Stat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723960" y="343080"/>
            <a:ext cx="79628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ition state has a definite structure and one pattern of movement of the atoms will lead to the production of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vement will be related to one of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rmal modes of vib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product or reactants but unlike the normal vibrations it is associated with a maximum in energy not a min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ill be only one mode which is maximised in this way at the transition state, the molecule still has other normal modes of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>
            <a:hlinkClick r:id="rId1"/>
          </p:cNvPr>
          <p:cNvSpPr/>
          <p:nvPr/>
        </p:nvSpPr>
        <p:spPr>
          <a:xfrm>
            <a:off x="3772080" y="45147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6720" y="250920"/>
            <a:ext cx="83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or the entropy of an ideal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79360" y="86364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ntropy we have the Boltzmann eq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4689360" y="900000"/>
                <a:ext cx="12067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Picture 5" descr="BOLT"/>
          <p:cNvPicPr/>
          <p:nvPr/>
        </p:nvPicPr>
        <p:blipFill>
          <a:blip r:embed="rId1"/>
          <a:stretch/>
        </p:blipFill>
        <p:spPr>
          <a:xfrm>
            <a:off x="6620040" y="874800"/>
            <a:ext cx="211932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80880" y="1434960"/>
            <a:ext cx="5854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we need is a link between the partition function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number of microstates available to a system under a particular set of macroscopic conditions. We know that for large collections of particles this results in the Boltzmann distrib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343080" y="3587760"/>
            <a:ext cx="2509560" cy="2616120"/>
            <a:chOff x="343080" y="3587760"/>
            <a:chExt cx="2509560" cy="2616120"/>
          </a:xfrm>
        </p:grpSpPr>
        <p:grpSp>
          <p:nvGrpSpPr>
            <p:cNvPr id="56" name="Group 8"/>
            <p:cNvGrpSpPr/>
            <p:nvPr/>
          </p:nvGrpSpPr>
          <p:grpSpPr>
            <a:xfrm>
              <a:off x="343080" y="3587760"/>
              <a:ext cx="2409840" cy="2616120"/>
              <a:chOff x="343080" y="3587760"/>
              <a:chExt cx="2409840" cy="261612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1438560" y="3816360"/>
                <a:ext cx="1314360" cy="2133720"/>
                <a:chOff x="1438560" y="3816360"/>
                <a:chExt cx="1314360" cy="2133720"/>
              </a:xfrm>
            </p:grpSpPr>
            <p:sp>
              <p:nvSpPr>
                <p:cNvPr id="58" name="Line 10"/>
                <p:cNvSpPr/>
                <p:nvPr/>
              </p:nvSpPr>
              <p:spPr>
                <a:xfrm>
                  <a:off x="1438560" y="5950080"/>
                  <a:ext cx="1314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11"/>
                <p:cNvSpPr/>
                <p:nvPr/>
              </p:nvSpPr>
              <p:spPr>
                <a:xfrm>
                  <a:off x="1438560" y="5238720"/>
                  <a:ext cx="1314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12"/>
                <p:cNvSpPr/>
                <p:nvPr/>
              </p:nvSpPr>
              <p:spPr>
                <a:xfrm>
                  <a:off x="1438560" y="4527360"/>
                  <a:ext cx="1314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13"/>
                <p:cNvSpPr/>
                <p:nvPr/>
              </p:nvSpPr>
              <p:spPr>
                <a:xfrm>
                  <a:off x="1438560" y="3816360"/>
                  <a:ext cx="1314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2" name="Object 14"/>
                  <p:cNvSpPr txBox="1"/>
                  <p:nvPr/>
                </p:nvSpPr>
                <p:spPr>
                  <a:xfrm>
                    <a:off x="381240" y="5702400"/>
                    <a:ext cx="893880" cy="50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" name="Object 15"/>
                  <p:cNvSpPr txBox="1"/>
                  <p:nvPr/>
                </p:nvSpPr>
                <p:spPr>
                  <a:xfrm>
                    <a:off x="422640" y="5049720"/>
                    <a:ext cx="809640" cy="47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" name="Object 16"/>
                  <p:cNvSpPr txBox="1"/>
                  <p:nvPr/>
                </p:nvSpPr>
                <p:spPr>
                  <a:xfrm>
                    <a:off x="343080" y="4307040"/>
                    <a:ext cx="89388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" name="Object 17"/>
                  <p:cNvSpPr txBox="1"/>
                  <p:nvPr/>
                </p:nvSpPr>
                <p:spPr>
                  <a:xfrm>
                    <a:off x="395640" y="3587760"/>
                    <a:ext cx="865080" cy="50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Oval 18"/>
            <p:cNvSpPr/>
            <p:nvPr/>
          </p:nvSpPr>
          <p:spPr>
            <a:xfrm>
              <a:off x="1427040" y="4329000"/>
              <a:ext cx="42084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9"/>
            <p:cNvSpPr/>
            <p:nvPr/>
          </p:nvSpPr>
          <p:spPr>
            <a:xfrm>
              <a:off x="1954080" y="5033880"/>
              <a:ext cx="42084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0"/>
            <p:cNvSpPr/>
            <p:nvPr/>
          </p:nvSpPr>
          <p:spPr>
            <a:xfrm>
              <a:off x="1424160" y="5032440"/>
              <a:ext cx="420480" cy="406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1"/>
            <p:cNvSpPr/>
            <p:nvPr/>
          </p:nvSpPr>
          <p:spPr>
            <a:xfrm>
              <a:off x="1444680" y="5743440"/>
              <a:ext cx="42048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2"/>
            <p:cNvSpPr/>
            <p:nvPr/>
          </p:nvSpPr>
          <p:spPr>
            <a:xfrm>
              <a:off x="1922400" y="5757840"/>
              <a:ext cx="42084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3"/>
            <p:cNvSpPr/>
            <p:nvPr/>
          </p:nvSpPr>
          <p:spPr>
            <a:xfrm>
              <a:off x="2432160" y="5770440"/>
              <a:ext cx="42048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4"/>
            <p:cNvSpPr/>
            <p:nvPr/>
          </p:nvSpPr>
          <p:spPr>
            <a:xfrm>
              <a:off x="1947960" y="4327560"/>
              <a:ext cx="42048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5"/>
            <p:cNvSpPr/>
            <p:nvPr/>
          </p:nvSpPr>
          <p:spPr>
            <a:xfrm>
              <a:off x="1468440" y="3630600"/>
              <a:ext cx="420840" cy="406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26"/>
          <p:cNvSpPr/>
          <p:nvPr/>
        </p:nvSpPr>
        <p:spPr>
          <a:xfrm flipV="1">
            <a:off x="3298680" y="3366720"/>
            <a:ext cx="0" cy="27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290760" y="6151680"/>
            <a:ext cx="230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2203560" y="3106800"/>
            <a:ext cx="12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5176800" y="626904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0"/>
          <p:cNvSpPr/>
          <p:nvPr/>
        </p:nvSpPr>
        <p:spPr>
          <a:xfrm>
            <a:off x="3290760" y="3467160"/>
            <a:ext cx="1695600" cy="267012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2670120"/>
              <a:gd name="textAreaBottom" fmla="*/ 2670480 h 2670120"/>
            </a:gdLst>
            <a:ahLst/>
            <a:rect l="textAreaLeft" t="textAreaTop" r="textAreaRight" b="textAreaBottom"/>
            <a:pathLst>
              <a:path w="1068" h="1682">
                <a:moveTo>
                  <a:pt x="1061" y="1682"/>
                </a:moveTo>
                <a:cubicBezTo>
                  <a:pt x="1053" y="1632"/>
                  <a:pt x="1068" y="1456"/>
                  <a:pt x="1015" y="1381"/>
                </a:cubicBezTo>
                <a:cubicBezTo>
                  <a:pt x="962" y="1306"/>
                  <a:pt x="796" y="1316"/>
                  <a:pt x="741" y="1234"/>
                </a:cubicBezTo>
                <a:cubicBezTo>
                  <a:pt x="686" y="1152"/>
                  <a:pt x="703" y="1009"/>
                  <a:pt x="686" y="887"/>
                </a:cubicBezTo>
                <a:cubicBezTo>
                  <a:pt x="669" y="765"/>
                  <a:pt x="690" y="599"/>
                  <a:pt x="640" y="503"/>
                </a:cubicBezTo>
                <a:cubicBezTo>
                  <a:pt x="590" y="407"/>
                  <a:pt x="442" y="386"/>
                  <a:pt x="384" y="311"/>
                </a:cubicBezTo>
                <a:cubicBezTo>
                  <a:pt x="326" y="236"/>
                  <a:pt x="357" y="107"/>
                  <a:pt x="293" y="55"/>
                </a:cubicBezTo>
                <a:cubicBezTo>
                  <a:pt x="229" y="3"/>
                  <a:pt x="61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1"/>
              <p:cNvSpPr txBox="1"/>
              <p:nvPr/>
            </p:nvSpPr>
            <p:spPr>
              <a:xfrm>
                <a:off x="4197240" y="3071880"/>
                <a:ext cx="1981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!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495360" y="7632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action quantities to do with the transition state are marked with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dagger (‡),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mentary steps in the reac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133720" y="160020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3009960" y="1828800"/>
            <a:ext cx="89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4514760" y="182880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4876920" y="17715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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495360" y="2114640"/>
            <a:ext cx="8191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 will be given by the rate at which the transition state transforms into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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ttempt 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requency with which the the transition state structure attempts to move on to products. We saw for the idea gas that the energy per degree of freedom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quating this to the energy of a vibrat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ften called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ansmission co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the number of attempts to go to product that succeed (usually be taken to be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7229520" y="4851360"/>
                <a:ext cx="12193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2438280" y="324000"/>
            <a:ext cx="4610160" cy="628200"/>
            <a:chOff x="2438280" y="324000"/>
            <a:chExt cx="4610160" cy="628200"/>
          </a:xfrm>
        </p:grpSpPr>
        <p:sp>
          <p:nvSpPr>
            <p:cNvPr id="448" name="Text Box 3"/>
            <p:cNvSpPr/>
            <p:nvPr/>
          </p:nvSpPr>
          <p:spPr>
            <a:xfrm>
              <a:off x="2438280" y="324000"/>
              <a:ext cx="46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+ 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"/>
            <p:cNvSpPr/>
            <p:nvPr/>
          </p:nvSpPr>
          <p:spPr>
            <a:xfrm>
              <a:off x="3314520" y="552240"/>
              <a:ext cx="89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5"/>
            <p:cNvSpPr/>
            <p:nvPr/>
          </p:nvSpPr>
          <p:spPr>
            <a:xfrm>
              <a:off x="4819320" y="552240"/>
              <a:ext cx="11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"/>
            <p:cNvSpPr/>
            <p:nvPr/>
          </p:nvSpPr>
          <p:spPr>
            <a:xfrm>
              <a:off x="5181480" y="495360"/>
              <a:ext cx="533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7"/>
          <p:cNvSpPr/>
          <p:nvPr/>
        </p:nvSpPr>
        <p:spPr>
          <a:xfrm>
            <a:off x="438120" y="952560"/>
            <a:ext cx="81345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[C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we can assume that A &amp; B are in thermodynamic equilibrium with C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][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quilibrium constant for the first part of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now shown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8"/>
              <p:cNvSpPr txBox="1"/>
              <p:nvPr/>
            </p:nvSpPr>
            <p:spPr>
              <a:xfrm>
                <a:off x="3854520" y="3422520"/>
                <a:ext cx="32796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‡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‡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eact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ΔE</m:t>
                                </m:r>
                              </m:e>
                              <m:sup>
                                <m:r>
                                  <m:t xml:space="preserve">‡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3670200" y="4610160"/>
                <a:ext cx="40039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‡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‡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ΔE</m:t>
                                </m:r>
                              </m:e>
                              <m:sup>
                                <m:r>
                                  <m:t xml:space="preserve">‡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2"/>
              <p:cNvSpPr txBox="1"/>
              <p:nvPr/>
            </p:nvSpPr>
            <p:spPr>
              <a:xfrm>
                <a:off x="3860640" y="5678640"/>
                <a:ext cx="44118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‡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ΔE</m:t>
                                </m:r>
                              </m:e>
                              <m:sup>
                                <m:r>
                                  <m:t xml:space="preserve">‡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231840" y="981000"/>
            <a:ext cx="1514160" cy="1530000"/>
            <a:chOff x="231840" y="981000"/>
            <a:chExt cx="1514160" cy="1530000"/>
          </a:xfrm>
        </p:grpSpPr>
        <p:grpSp>
          <p:nvGrpSpPr>
            <p:cNvPr id="81" name="Group 3"/>
            <p:cNvGrpSpPr/>
            <p:nvPr/>
          </p:nvGrpSpPr>
          <p:grpSpPr>
            <a:xfrm>
              <a:off x="920160" y="1114560"/>
              <a:ext cx="825840" cy="1248120"/>
              <a:chOff x="920160" y="1114560"/>
              <a:chExt cx="825840" cy="1248120"/>
            </a:xfrm>
          </p:grpSpPr>
          <p:sp>
            <p:nvSpPr>
              <p:cNvPr id="82" name="Line 4"/>
              <p:cNvSpPr/>
              <p:nvPr/>
            </p:nvSpPr>
            <p:spPr>
              <a:xfrm>
                <a:off x="920160" y="236268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5"/>
              <p:cNvSpPr/>
              <p:nvPr/>
            </p:nvSpPr>
            <p:spPr>
              <a:xfrm>
                <a:off x="920160" y="194652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6"/>
              <p:cNvSpPr/>
              <p:nvPr/>
            </p:nvSpPr>
            <p:spPr>
              <a:xfrm>
                <a:off x="920160" y="15303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7"/>
              <p:cNvSpPr/>
              <p:nvPr/>
            </p:nvSpPr>
            <p:spPr>
              <a:xfrm>
                <a:off x="920160" y="11145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6" name="Object 8"/>
                <p:cNvSpPr txBox="1"/>
                <p:nvPr/>
              </p:nvSpPr>
              <p:spPr>
                <a:xfrm>
                  <a:off x="255600" y="2217960"/>
                  <a:ext cx="561600" cy="2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Object 9"/>
                <p:cNvSpPr txBox="1"/>
                <p:nvPr/>
              </p:nvSpPr>
              <p:spPr>
                <a:xfrm>
                  <a:off x="281520" y="1836000"/>
                  <a:ext cx="50868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10"/>
                <p:cNvSpPr txBox="1"/>
                <p:nvPr/>
              </p:nvSpPr>
              <p:spPr>
                <a:xfrm>
                  <a:off x="231840" y="1401480"/>
                  <a:ext cx="5616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Object 11"/>
                <p:cNvSpPr txBox="1"/>
                <p:nvPr/>
              </p:nvSpPr>
              <p:spPr>
                <a:xfrm>
                  <a:off x="264600" y="981000"/>
                  <a:ext cx="5436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Text Box 12"/>
          <p:cNvSpPr/>
          <p:nvPr/>
        </p:nvSpPr>
        <p:spPr>
          <a:xfrm>
            <a:off x="533520" y="266760"/>
            <a:ext cx="81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=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ee distributions are 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93672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120816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147492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174636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7"/>
          <p:cNvSpPr/>
          <p:nvPr/>
        </p:nvSpPr>
        <p:spPr>
          <a:xfrm>
            <a:off x="922320" y="18194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8"/>
          <p:cNvSpPr/>
          <p:nvPr/>
        </p:nvSpPr>
        <p:spPr>
          <a:xfrm>
            <a:off x="1193760" y="18194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1460520" y="18194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0"/>
          <p:cNvGrpSpPr/>
          <p:nvPr/>
        </p:nvGrpSpPr>
        <p:grpSpPr>
          <a:xfrm>
            <a:off x="216000" y="2852640"/>
            <a:ext cx="1514160" cy="1530000"/>
            <a:chOff x="216000" y="2852640"/>
            <a:chExt cx="1514160" cy="1530000"/>
          </a:xfrm>
        </p:grpSpPr>
        <p:grpSp>
          <p:nvGrpSpPr>
            <p:cNvPr id="99" name="Group 21"/>
            <p:cNvGrpSpPr/>
            <p:nvPr/>
          </p:nvGrpSpPr>
          <p:grpSpPr>
            <a:xfrm>
              <a:off x="904320" y="2986200"/>
              <a:ext cx="825840" cy="1248120"/>
              <a:chOff x="904320" y="2986200"/>
              <a:chExt cx="825840" cy="1248120"/>
            </a:xfrm>
          </p:grpSpPr>
          <p:sp>
            <p:nvSpPr>
              <p:cNvPr id="100" name="Line 22"/>
              <p:cNvSpPr/>
              <p:nvPr/>
            </p:nvSpPr>
            <p:spPr>
              <a:xfrm>
                <a:off x="904320" y="423432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904320" y="38181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904320" y="340200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904320" y="298620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4" name="Object 26"/>
                <p:cNvSpPr txBox="1"/>
                <p:nvPr/>
              </p:nvSpPr>
              <p:spPr>
                <a:xfrm>
                  <a:off x="239760" y="4089600"/>
                  <a:ext cx="561600" cy="2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7"/>
                <p:cNvSpPr txBox="1"/>
                <p:nvPr/>
              </p:nvSpPr>
              <p:spPr>
                <a:xfrm>
                  <a:off x="265680" y="3707640"/>
                  <a:ext cx="50868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28"/>
                <p:cNvSpPr txBox="1"/>
                <p:nvPr/>
              </p:nvSpPr>
              <p:spPr>
                <a:xfrm>
                  <a:off x="216000" y="3273120"/>
                  <a:ext cx="5616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29"/>
                <p:cNvSpPr txBox="1"/>
                <p:nvPr/>
              </p:nvSpPr>
              <p:spPr>
                <a:xfrm>
                  <a:off x="248760" y="2852640"/>
                  <a:ext cx="5436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Oval 30"/>
          <p:cNvSpPr/>
          <p:nvPr/>
        </p:nvSpPr>
        <p:spPr>
          <a:xfrm>
            <a:off x="92088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1"/>
          <p:cNvSpPr/>
          <p:nvPr/>
        </p:nvSpPr>
        <p:spPr>
          <a:xfrm>
            <a:off x="119232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2"/>
          <p:cNvSpPr/>
          <p:nvPr/>
        </p:nvSpPr>
        <p:spPr>
          <a:xfrm>
            <a:off x="145908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3"/>
          <p:cNvSpPr/>
          <p:nvPr/>
        </p:nvSpPr>
        <p:spPr>
          <a:xfrm>
            <a:off x="173052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4"/>
          <p:cNvSpPr/>
          <p:nvPr/>
        </p:nvSpPr>
        <p:spPr>
          <a:xfrm>
            <a:off x="906480" y="369108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5"/>
          <p:cNvSpPr/>
          <p:nvPr/>
        </p:nvSpPr>
        <p:spPr>
          <a:xfrm>
            <a:off x="920880" y="32716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6"/>
          <p:cNvSpPr/>
          <p:nvPr/>
        </p:nvSpPr>
        <p:spPr>
          <a:xfrm>
            <a:off x="2006640" y="41004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7"/>
          <p:cNvGrpSpPr/>
          <p:nvPr/>
        </p:nvGrpSpPr>
        <p:grpSpPr>
          <a:xfrm>
            <a:off x="195120" y="4780080"/>
            <a:ext cx="1514160" cy="1530000"/>
            <a:chOff x="195120" y="4780080"/>
            <a:chExt cx="1514160" cy="1530000"/>
          </a:xfrm>
        </p:grpSpPr>
        <p:grpSp>
          <p:nvGrpSpPr>
            <p:cNvPr id="116" name="Group 38"/>
            <p:cNvGrpSpPr/>
            <p:nvPr/>
          </p:nvGrpSpPr>
          <p:grpSpPr>
            <a:xfrm>
              <a:off x="883440" y="4913640"/>
              <a:ext cx="825840" cy="1248120"/>
              <a:chOff x="883440" y="4913640"/>
              <a:chExt cx="825840" cy="1248120"/>
            </a:xfrm>
          </p:grpSpPr>
          <p:sp>
            <p:nvSpPr>
              <p:cNvPr id="117" name="Line 39"/>
              <p:cNvSpPr/>
              <p:nvPr/>
            </p:nvSpPr>
            <p:spPr>
              <a:xfrm>
                <a:off x="883440" y="61617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83440" y="574560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41"/>
              <p:cNvSpPr/>
              <p:nvPr/>
            </p:nvSpPr>
            <p:spPr>
              <a:xfrm>
                <a:off x="883440" y="532944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2"/>
              <p:cNvSpPr/>
              <p:nvPr/>
            </p:nvSpPr>
            <p:spPr>
              <a:xfrm>
                <a:off x="883440" y="491364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1" name="Object 43"/>
                <p:cNvSpPr txBox="1"/>
                <p:nvPr/>
              </p:nvSpPr>
              <p:spPr>
                <a:xfrm>
                  <a:off x="218880" y="6017040"/>
                  <a:ext cx="561600" cy="2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Object 44"/>
                <p:cNvSpPr txBox="1"/>
                <p:nvPr/>
              </p:nvSpPr>
              <p:spPr>
                <a:xfrm>
                  <a:off x="244800" y="5635080"/>
                  <a:ext cx="50868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Object 45"/>
                <p:cNvSpPr txBox="1"/>
                <p:nvPr/>
              </p:nvSpPr>
              <p:spPr>
                <a:xfrm>
                  <a:off x="195120" y="5200560"/>
                  <a:ext cx="5616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Object 46"/>
                <p:cNvSpPr txBox="1"/>
                <p:nvPr/>
              </p:nvSpPr>
              <p:spPr>
                <a:xfrm>
                  <a:off x="227880" y="4780080"/>
                  <a:ext cx="5436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" name="Oval 47"/>
          <p:cNvSpPr/>
          <p:nvPr/>
        </p:nvSpPr>
        <p:spPr>
          <a:xfrm>
            <a:off x="900000" y="60228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8"/>
          <p:cNvSpPr/>
          <p:nvPr/>
        </p:nvSpPr>
        <p:spPr>
          <a:xfrm>
            <a:off x="1171440" y="6022800"/>
            <a:ext cx="25272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9"/>
          <p:cNvSpPr/>
          <p:nvPr/>
        </p:nvSpPr>
        <p:spPr>
          <a:xfrm>
            <a:off x="1438200" y="60228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0"/>
          <p:cNvSpPr/>
          <p:nvPr/>
        </p:nvSpPr>
        <p:spPr>
          <a:xfrm>
            <a:off x="1709640" y="60228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1"/>
          <p:cNvSpPr/>
          <p:nvPr/>
        </p:nvSpPr>
        <p:spPr>
          <a:xfrm>
            <a:off x="2257560" y="60278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2"/>
          <p:cNvSpPr/>
          <p:nvPr/>
        </p:nvSpPr>
        <p:spPr>
          <a:xfrm>
            <a:off x="900000" y="478008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3"/>
          <p:cNvSpPr/>
          <p:nvPr/>
        </p:nvSpPr>
        <p:spPr>
          <a:xfrm>
            <a:off x="1986120" y="60278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4"/>
              <p:cNvSpPr txBox="1"/>
              <p:nvPr/>
            </p:nvSpPr>
            <p:spPr>
              <a:xfrm>
                <a:off x="2227320" y="1204920"/>
                <a:ext cx="34113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5"/>
              <p:cNvSpPr txBox="1"/>
              <p:nvPr/>
            </p:nvSpPr>
            <p:spPr>
              <a:xfrm>
                <a:off x="2193840" y="3040200"/>
                <a:ext cx="33148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6"/>
              <p:cNvSpPr txBox="1"/>
              <p:nvPr/>
            </p:nvSpPr>
            <p:spPr>
              <a:xfrm>
                <a:off x="3362400" y="4911840"/>
                <a:ext cx="1995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6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Picture 57" descr=""/>
          <p:cNvPicPr/>
          <p:nvPr/>
        </p:nvPicPr>
        <p:blipFill>
          <a:blip r:embed="rId1"/>
          <a:stretch/>
        </p:blipFill>
        <p:spPr>
          <a:xfrm>
            <a:off x="5848200" y="752400"/>
            <a:ext cx="3090960" cy="212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8" descr=""/>
          <p:cNvPicPr/>
          <p:nvPr/>
        </p:nvPicPr>
        <p:blipFill>
          <a:blip r:embed="rId2"/>
          <a:stretch/>
        </p:blipFill>
        <p:spPr>
          <a:xfrm>
            <a:off x="5867280" y="2797200"/>
            <a:ext cx="3071880" cy="2109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9" descr=""/>
          <p:cNvPicPr/>
          <p:nvPr/>
        </p:nvPicPr>
        <p:blipFill>
          <a:blip r:embed="rId3"/>
          <a:stretch/>
        </p:blipFill>
        <p:spPr>
          <a:xfrm>
            <a:off x="5873760" y="4791240"/>
            <a:ext cx="30812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31840" y="981000"/>
            <a:ext cx="1514160" cy="1530000"/>
            <a:chOff x="231840" y="981000"/>
            <a:chExt cx="1514160" cy="1530000"/>
          </a:xfrm>
        </p:grpSpPr>
        <p:grpSp>
          <p:nvGrpSpPr>
            <p:cNvPr id="139" name="Group 3"/>
            <p:cNvGrpSpPr/>
            <p:nvPr/>
          </p:nvGrpSpPr>
          <p:grpSpPr>
            <a:xfrm>
              <a:off x="920160" y="1114560"/>
              <a:ext cx="825840" cy="1248120"/>
              <a:chOff x="920160" y="1114560"/>
              <a:chExt cx="825840" cy="1248120"/>
            </a:xfrm>
          </p:grpSpPr>
          <p:sp>
            <p:nvSpPr>
              <p:cNvPr id="140" name="Line 4"/>
              <p:cNvSpPr/>
              <p:nvPr/>
            </p:nvSpPr>
            <p:spPr>
              <a:xfrm>
                <a:off x="920160" y="236268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5"/>
              <p:cNvSpPr/>
              <p:nvPr/>
            </p:nvSpPr>
            <p:spPr>
              <a:xfrm>
                <a:off x="920160" y="194652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"/>
              <p:cNvSpPr/>
              <p:nvPr/>
            </p:nvSpPr>
            <p:spPr>
              <a:xfrm>
                <a:off x="920160" y="15303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"/>
              <p:cNvSpPr/>
              <p:nvPr/>
            </p:nvSpPr>
            <p:spPr>
              <a:xfrm>
                <a:off x="920160" y="11145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4" name="Object 8"/>
                <p:cNvSpPr txBox="1"/>
                <p:nvPr/>
              </p:nvSpPr>
              <p:spPr>
                <a:xfrm>
                  <a:off x="255600" y="2217960"/>
                  <a:ext cx="561600" cy="2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9"/>
                <p:cNvSpPr txBox="1"/>
                <p:nvPr/>
              </p:nvSpPr>
              <p:spPr>
                <a:xfrm>
                  <a:off x="281520" y="1836000"/>
                  <a:ext cx="50868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0"/>
                <p:cNvSpPr txBox="1"/>
                <p:nvPr/>
              </p:nvSpPr>
              <p:spPr>
                <a:xfrm>
                  <a:off x="231840" y="1401480"/>
                  <a:ext cx="5616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1"/>
                <p:cNvSpPr txBox="1"/>
                <p:nvPr/>
              </p:nvSpPr>
              <p:spPr>
                <a:xfrm>
                  <a:off x="264600" y="981000"/>
                  <a:ext cx="5436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Text Box 12"/>
          <p:cNvSpPr/>
          <p:nvPr/>
        </p:nvSpPr>
        <p:spPr>
          <a:xfrm>
            <a:off x="533520" y="266760"/>
            <a:ext cx="81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=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ee distributions are 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93672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120816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147492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1746360" y="22240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922320" y="18194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1193760" y="18194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9"/>
          <p:cNvSpPr/>
          <p:nvPr/>
        </p:nvSpPr>
        <p:spPr>
          <a:xfrm>
            <a:off x="1460520" y="18194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216000" y="2852640"/>
            <a:ext cx="1514160" cy="1530000"/>
            <a:chOff x="216000" y="2852640"/>
            <a:chExt cx="1514160" cy="1530000"/>
          </a:xfrm>
        </p:grpSpPr>
        <p:grpSp>
          <p:nvGrpSpPr>
            <p:cNvPr id="157" name="Group 21"/>
            <p:cNvGrpSpPr/>
            <p:nvPr/>
          </p:nvGrpSpPr>
          <p:grpSpPr>
            <a:xfrm>
              <a:off x="904320" y="2986200"/>
              <a:ext cx="825840" cy="1248120"/>
              <a:chOff x="904320" y="2986200"/>
              <a:chExt cx="825840" cy="1248120"/>
            </a:xfrm>
          </p:grpSpPr>
          <p:sp>
            <p:nvSpPr>
              <p:cNvPr id="158" name="Line 22"/>
              <p:cNvSpPr/>
              <p:nvPr/>
            </p:nvSpPr>
            <p:spPr>
              <a:xfrm>
                <a:off x="904320" y="423432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>
                <a:off x="904320" y="38181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>
                <a:off x="904320" y="340200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5"/>
              <p:cNvSpPr/>
              <p:nvPr/>
            </p:nvSpPr>
            <p:spPr>
              <a:xfrm>
                <a:off x="904320" y="298620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2" name="Object 26"/>
                <p:cNvSpPr txBox="1"/>
                <p:nvPr/>
              </p:nvSpPr>
              <p:spPr>
                <a:xfrm>
                  <a:off x="239760" y="4089600"/>
                  <a:ext cx="561600" cy="2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27"/>
                <p:cNvSpPr txBox="1"/>
                <p:nvPr/>
              </p:nvSpPr>
              <p:spPr>
                <a:xfrm>
                  <a:off x="265680" y="3707640"/>
                  <a:ext cx="50868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28"/>
                <p:cNvSpPr txBox="1"/>
                <p:nvPr/>
              </p:nvSpPr>
              <p:spPr>
                <a:xfrm>
                  <a:off x="216000" y="3273120"/>
                  <a:ext cx="5616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29"/>
                <p:cNvSpPr txBox="1"/>
                <p:nvPr/>
              </p:nvSpPr>
              <p:spPr>
                <a:xfrm>
                  <a:off x="248760" y="2852640"/>
                  <a:ext cx="5436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Oval 30"/>
          <p:cNvSpPr/>
          <p:nvPr/>
        </p:nvSpPr>
        <p:spPr>
          <a:xfrm>
            <a:off x="92088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1"/>
          <p:cNvSpPr/>
          <p:nvPr/>
        </p:nvSpPr>
        <p:spPr>
          <a:xfrm>
            <a:off x="119232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2"/>
          <p:cNvSpPr/>
          <p:nvPr/>
        </p:nvSpPr>
        <p:spPr>
          <a:xfrm>
            <a:off x="145908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3"/>
          <p:cNvSpPr/>
          <p:nvPr/>
        </p:nvSpPr>
        <p:spPr>
          <a:xfrm>
            <a:off x="1730520" y="409572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4"/>
          <p:cNvSpPr/>
          <p:nvPr/>
        </p:nvSpPr>
        <p:spPr>
          <a:xfrm>
            <a:off x="906480" y="369108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920880" y="327168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2006640" y="41004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7"/>
          <p:cNvGrpSpPr/>
          <p:nvPr/>
        </p:nvGrpSpPr>
        <p:grpSpPr>
          <a:xfrm>
            <a:off x="195120" y="4780080"/>
            <a:ext cx="1514160" cy="1530000"/>
            <a:chOff x="195120" y="4780080"/>
            <a:chExt cx="1514160" cy="1530000"/>
          </a:xfrm>
        </p:grpSpPr>
        <p:grpSp>
          <p:nvGrpSpPr>
            <p:cNvPr id="174" name="Group 38"/>
            <p:cNvGrpSpPr/>
            <p:nvPr/>
          </p:nvGrpSpPr>
          <p:grpSpPr>
            <a:xfrm>
              <a:off x="883440" y="4913640"/>
              <a:ext cx="825840" cy="1248120"/>
              <a:chOff x="883440" y="4913640"/>
              <a:chExt cx="825840" cy="1248120"/>
            </a:xfrm>
          </p:grpSpPr>
          <p:sp>
            <p:nvSpPr>
              <p:cNvPr id="175" name="Line 39"/>
              <p:cNvSpPr/>
              <p:nvPr/>
            </p:nvSpPr>
            <p:spPr>
              <a:xfrm>
                <a:off x="883440" y="616176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40"/>
              <p:cNvSpPr/>
              <p:nvPr/>
            </p:nvSpPr>
            <p:spPr>
              <a:xfrm>
                <a:off x="883440" y="574560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41"/>
              <p:cNvSpPr/>
              <p:nvPr/>
            </p:nvSpPr>
            <p:spPr>
              <a:xfrm>
                <a:off x="883440" y="532944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42"/>
              <p:cNvSpPr/>
              <p:nvPr/>
            </p:nvSpPr>
            <p:spPr>
              <a:xfrm>
                <a:off x="883440" y="4913640"/>
                <a:ext cx="825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9" name="Object 43"/>
                <p:cNvSpPr txBox="1"/>
                <p:nvPr/>
              </p:nvSpPr>
              <p:spPr>
                <a:xfrm>
                  <a:off x="218880" y="6017040"/>
                  <a:ext cx="561600" cy="29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Object 44"/>
                <p:cNvSpPr txBox="1"/>
                <p:nvPr/>
              </p:nvSpPr>
              <p:spPr>
                <a:xfrm>
                  <a:off x="244800" y="5635080"/>
                  <a:ext cx="50868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45"/>
                <p:cNvSpPr txBox="1"/>
                <p:nvPr/>
              </p:nvSpPr>
              <p:spPr>
                <a:xfrm>
                  <a:off x="195120" y="5200560"/>
                  <a:ext cx="56160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Object 46"/>
                <p:cNvSpPr txBox="1"/>
                <p:nvPr/>
              </p:nvSpPr>
              <p:spPr>
                <a:xfrm>
                  <a:off x="227880" y="4780080"/>
                  <a:ext cx="5436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3" name="Oval 47"/>
          <p:cNvSpPr/>
          <p:nvPr/>
        </p:nvSpPr>
        <p:spPr>
          <a:xfrm>
            <a:off x="900000" y="60228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8"/>
          <p:cNvSpPr/>
          <p:nvPr/>
        </p:nvSpPr>
        <p:spPr>
          <a:xfrm>
            <a:off x="1171440" y="6022800"/>
            <a:ext cx="25272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9"/>
          <p:cNvSpPr/>
          <p:nvPr/>
        </p:nvSpPr>
        <p:spPr>
          <a:xfrm>
            <a:off x="1438200" y="60228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0"/>
          <p:cNvSpPr/>
          <p:nvPr/>
        </p:nvSpPr>
        <p:spPr>
          <a:xfrm>
            <a:off x="1709640" y="6022800"/>
            <a:ext cx="252360" cy="262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1"/>
          <p:cNvSpPr/>
          <p:nvPr/>
        </p:nvSpPr>
        <p:spPr>
          <a:xfrm>
            <a:off x="2257560" y="60278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2"/>
          <p:cNvSpPr/>
          <p:nvPr/>
        </p:nvSpPr>
        <p:spPr>
          <a:xfrm>
            <a:off x="900000" y="478008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3"/>
          <p:cNvSpPr/>
          <p:nvPr/>
        </p:nvSpPr>
        <p:spPr>
          <a:xfrm>
            <a:off x="1986120" y="6027840"/>
            <a:ext cx="252360" cy="26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4"/>
              <p:cNvSpPr txBox="1"/>
              <p:nvPr/>
            </p:nvSpPr>
            <p:spPr>
              <a:xfrm>
                <a:off x="2349360" y="1162080"/>
                <a:ext cx="5085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7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55"/>
              <p:cNvSpPr txBox="1"/>
              <p:nvPr/>
            </p:nvSpPr>
            <p:spPr>
              <a:xfrm>
                <a:off x="2720880" y="3011400"/>
                <a:ext cx="440856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!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6"/>
              <p:cNvSpPr txBox="1"/>
              <p:nvPr/>
            </p:nvSpPr>
            <p:spPr>
              <a:xfrm>
                <a:off x="4278240" y="4535640"/>
                <a:ext cx="25416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!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WordArt 57"/>
          <p:cNvSpPr txBox="1"/>
          <p:nvPr/>
        </p:nvSpPr>
        <p:spPr>
          <a:xfrm>
            <a:off x="1887480" y="2151000"/>
            <a:ext cx="3477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9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194" name="WordArt 58"/>
          <p:cNvSpPr txBox="1"/>
          <p:nvPr/>
        </p:nvSpPr>
        <p:spPr>
          <a:xfrm>
            <a:off x="2141640" y="4044960"/>
            <a:ext cx="3474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9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195" name="WordArt 59"/>
          <p:cNvSpPr txBox="1"/>
          <p:nvPr/>
        </p:nvSpPr>
        <p:spPr>
          <a:xfrm>
            <a:off x="2411280" y="5952960"/>
            <a:ext cx="3477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9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3352680" y="5864400"/>
            <a:ext cx="52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omina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98440" y="285840"/>
                <a:ext cx="25653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!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345960" y="2143080"/>
                <a:ext cx="29926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4"/>
          <p:cNvSpPr/>
          <p:nvPr/>
        </p:nvSpPr>
        <p:spPr>
          <a:xfrm>
            <a:off x="203040" y="1473120"/>
            <a:ext cx="490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Boltzmann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ne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3000240" y="1484280"/>
                <a:ext cx="12067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52360" y="3797280"/>
            <a:ext cx="4140360" cy="254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345960" y="2143080"/>
                <a:ext cx="29926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5418000" y="2795760"/>
                <a:ext cx="2619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1951200" y="4172040"/>
                <a:ext cx="583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3005280" y="5446800"/>
                <a:ext cx="1209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Freeform 11"/>
          <p:cNvSpPr/>
          <p:nvPr/>
        </p:nvSpPr>
        <p:spPr>
          <a:xfrm>
            <a:off x="2476440" y="4248000"/>
            <a:ext cx="552600" cy="419400"/>
          </a:xfrm>
          <a:custGeom>
            <a:avLst/>
            <a:gdLst>
              <a:gd name="textAreaLeft" fmla="*/ 0 w 552600"/>
              <a:gd name="textAreaRight" fmla="*/ 552960 w 55260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348" h="264">
                <a:moveTo>
                  <a:pt x="0" y="36"/>
                </a:moveTo>
                <a:cubicBezTo>
                  <a:pt x="22" y="30"/>
                  <a:pt x="110" y="0"/>
                  <a:pt x="144" y="0"/>
                </a:cubicBezTo>
                <a:cubicBezTo>
                  <a:pt x="178" y="0"/>
                  <a:pt x="194" y="12"/>
                  <a:pt x="204" y="36"/>
                </a:cubicBezTo>
                <a:cubicBezTo>
                  <a:pt x="214" y="60"/>
                  <a:pt x="180" y="106"/>
                  <a:pt x="204" y="144"/>
                </a:cubicBezTo>
                <a:cubicBezTo>
                  <a:pt x="228" y="182"/>
                  <a:pt x="318" y="239"/>
                  <a:pt x="348" y="2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"/>
          <p:cNvSpPr/>
          <p:nvPr/>
        </p:nvSpPr>
        <p:spPr>
          <a:xfrm>
            <a:off x="3219480" y="4838760"/>
            <a:ext cx="495360" cy="666720"/>
          </a:xfrm>
          <a:custGeom>
            <a:avLst/>
            <a:gdLst>
              <a:gd name="textAreaLeft" fmla="*/ 0 w 495360"/>
              <a:gd name="textAreaRight" fmla="*/ 495720 w 4953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312" h="420">
                <a:moveTo>
                  <a:pt x="312" y="420"/>
                </a:moveTo>
                <a:cubicBezTo>
                  <a:pt x="292" y="394"/>
                  <a:pt x="232" y="296"/>
                  <a:pt x="204" y="264"/>
                </a:cubicBezTo>
                <a:cubicBezTo>
                  <a:pt x="176" y="232"/>
                  <a:pt x="154" y="252"/>
                  <a:pt x="144" y="228"/>
                </a:cubicBezTo>
                <a:cubicBezTo>
                  <a:pt x="134" y="204"/>
                  <a:pt x="168" y="158"/>
                  <a:pt x="144" y="120"/>
                </a:cubicBezTo>
                <a:cubicBezTo>
                  <a:pt x="120" y="82"/>
                  <a:pt x="30" y="25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4444920" y="29196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4622760" y="3749760"/>
                <a:ext cx="4457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15"/>
          <p:cNvSpPr/>
          <p:nvPr/>
        </p:nvSpPr>
        <p:spPr>
          <a:xfrm>
            <a:off x="4692600" y="177840"/>
            <a:ext cx="405756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emical systems 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large numbers, (of or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ctorials can be treated using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irling’s 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for lar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4730760" y="328932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7"/>
              <p:cNvSpPr txBox="1"/>
              <p:nvPr/>
            </p:nvSpPr>
            <p:spPr>
              <a:xfrm>
                <a:off x="5197320" y="4978440"/>
                <a:ext cx="2926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45960" y="343080"/>
                <a:ext cx="2925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Text Box 3"/>
          <p:cNvSpPr/>
          <p:nvPr/>
        </p:nvSpPr>
        <p:spPr>
          <a:xfrm>
            <a:off x="203040" y="1473120"/>
            <a:ext cx="490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now slot this into the Boltzmann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g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4981680" y="1484280"/>
                <a:ext cx="12063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1138320" y="1957320"/>
                <a:ext cx="2994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938160" y="3024360"/>
                <a:ext cx="3317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N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AutoShape 7"/>
          <p:cNvSpPr/>
          <p:nvPr/>
        </p:nvSpPr>
        <p:spPr>
          <a:xfrm>
            <a:off x="4356000" y="2235240"/>
            <a:ext cx="317520" cy="1206360"/>
          </a:xfrm>
          <a:custGeom>
            <a:avLst/>
            <a:gdLst>
              <a:gd name="textAreaLeft" fmla="*/ 42480 w 317520"/>
              <a:gd name="textAreaRight" fmla="*/ 275040 w 317520"/>
              <a:gd name="textAreaTop" fmla="*/ 210960 h 1206360"/>
              <a:gd name="textAreaBottom" fmla="*/ 87480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838760" y="267984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5786280" y="2476440"/>
                <a:ext cx="11368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974880" y="4000680"/>
                <a:ext cx="2203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AutoShape 11"/>
          <p:cNvSpPr/>
          <p:nvPr/>
        </p:nvSpPr>
        <p:spPr>
          <a:xfrm>
            <a:off x="4368960" y="3478320"/>
            <a:ext cx="317520" cy="1206360"/>
          </a:xfrm>
          <a:custGeom>
            <a:avLst/>
            <a:gdLst>
              <a:gd name="textAreaLeft" fmla="*/ 42480 w 317520"/>
              <a:gd name="textAreaRight" fmla="*/ 275040 w 317520"/>
              <a:gd name="textAreaTop" fmla="*/ 210960 h 1206360"/>
              <a:gd name="textAreaBottom" fmla="*/ 87480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952880" y="389880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6048360" y="3649680"/>
                <a:ext cx="2341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4"/>
              <p:cNvSpPr txBox="1"/>
              <p:nvPr/>
            </p:nvSpPr>
            <p:spPr>
              <a:xfrm>
                <a:off x="963720" y="4991040"/>
                <a:ext cx="3038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15"/>
          <p:cNvSpPr/>
          <p:nvPr/>
        </p:nvSpPr>
        <p:spPr>
          <a:xfrm>
            <a:off x="4114800" y="4610160"/>
            <a:ext cx="317520" cy="876240"/>
          </a:xfrm>
          <a:custGeom>
            <a:avLst/>
            <a:gdLst>
              <a:gd name="textAreaLeft" fmla="*/ 42480 w 317520"/>
              <a:gd name="textAreaRight" fmla="*/ 275040 w 317520"/>
              <a:gd name="textAreaTop" fmla="*/ 153360 h 876240"/>
              <a:gd name="textAreaBottom" fmla="*/ 6354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660920" y="506736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7"/>
              <p:cNvSpPr txBox="1"/>
              <p:nvPr/>
            </p:nvSpPr>
            <p:spPr>
              <a:xfrm>
                <a:off x="5730840" y="4911840"/>
                <a:ext cx="1274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9" name="Group 18"/>
          <p:cNvGrpSpPr/>
          <p:nvPr/>
        </p:nvGrpSpPr>
        <p:grpSpPr>
          <a:xfrm>
            <a:off x="6642000" y="336600"/>
            <a:ext cx="1938240" cy="1803240"/>
            <a:chOff x="6642000" y="336600"/>
            <a:chExt cx="1938240" cy="1803240"/>
          </a:xfrm>
        </p:grpSpPr>
        <p:grpSp>
          <p:nvGrpSpPr>
            <p:cNvPr id="230" name="Group 19"/>
            <p:cNvGrpSpPr/>
            <p:nvPr/>
          </p:nvGrpSpPr>
          <p:grpSpPr>
            <a:xfrm>
              <a:off x="6642000" y="336600"/>
              <a:ext cx="1861200" cy="1803240"/>
              <a:chOff x="6642000" y="336600"/>
              <a:chExt cx="1861200" cy="1803240"/>
            </a:xfrm>
          </p:grpSpPr>
          <p:grpSp>
            <p:nvGrpSpPr>
              <p:cNvPr id="231" name="Group 20"/>
              <p:cNvGrpSpPr/>
              <p:nvPr/>
            </p:nvGrpSpPr>
            <p:grpSpPr>
              <a:xfrm>
                <a:off x="7488000" y="493920"/>
                <a:ext cx="1015200" cy="1470600"/>
                <a:chOff x="7488000" y="493920"/>
                <a:chExt cx="1015200" cy="1470600"/>
              </a:xfrm>
            </p:grpSpPr>
            <p:sp>
              <p:nvSpPr>
                <p:cNvPr id="232" name="Line 21"/>
                <p:cNvSpPr/>
                <p:nvPr/>
              </p:nvSpPr>
              <p:spPr>
                <a:xfrm>
                  <a:off x="7488000" y="1964520"/>
                  <a:ext cx="10152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2"/>
                <p:cNvSpPr/>
                <p:nvPr/>
              </p:nvSpPr>
              <p:spPr>
                <a:xfrm>
                  <a:off x="7488000" y="1474200"/>
                  <a:ext cx="10152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3"/>
                <p:cNvSpPr/>
                <p:nvPr/>
              </p:nvSpPr>
              <p:spPr>
                <a:xfrm>
                  <a:off x="7488000" y="983880"/>
                  <a:ext cx="10152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4"/>
                <p:cNvSpPr/>
                <p:nvPr/>
              </p:nvSpPr>
              <p:spPr>
                <a:xfrm>
                  <a:off x="7488000" y="493920"/>
                  <a:ext cx="10152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36" name="Object 25"/>
                  <p:cNvSpPr txBox="1"/>
                  <p:nvPr/>
                </p:nvSpPr>
                <p:spPr>
                  <a:xfrm>
                    <a:off x="6671160" y="1794240"/>
                    <a:ext cx="690480" cy="34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26"/>
                  <p:cNvSpPr txBox="1"/>
                  <p:nvPr/>
                </p:nvSpPr>
                <p:spPr>
                  <a:xfrm>
                    <a:off x="6703200" y="1344240"/>
                    <a:ext cx="625320" cy="326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27"/>
                  <p:cNvSpPr txBox="1"/>
                  <p:nvPr/>
                </p:nvSpPr>
                <p:spPr>
                  <a:xfrm>
                    <a:off x="6642000" y="832320"/>
                    <a:ext cx="690480" cy="32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28"/>
                  <p:cNvSpPr txBox="1"/>
                  <p:nvPr/>
                </p:nvSpPr>
                <p:spPr>
                  <a:xfrm>
                    <a:off x="6682320" y="336600"/>
                    <a:ext cx="668160" cy="34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0" name="Oval 29"/>
            <p:cNvSpPr/>
            <p:nvPr/>
          </p:nvSpPr>
          <p:spPr>
            <a:xfrm>
              <a:off x="7479360" y="847440"/>
              <a:ext cx="32508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0"/>
            <p:cNvSpPr/>
            <p:nvPr/>
          </p:nvSpPr>
          <p:spPr>
            <a:xfrm>
              <a:off x="7886520" y="1333440"/>
              <a:ext cx="32508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1"/>
            <p:cNvSpPr/>
            <p:nvPr/>
          </p:nvSpPr>
          <p:spPr>
            <a:xfrm>
              <a:off x="7476840" y="1332360"/>
              <a:ext cx="324720" cy="279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2"/>
            <p:cNvSpPr/>
            <p:nvPr/>
          </p:nvSpPr>
          <p:spPr>
            <a:xfrm>
              <a:off x="7492680" y="1822320"/>
              <a:ext cx="32472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3"/>
            <p:cNvSpPr/>
            <p:nvPr/>
          </p:nvSpPr>
          <p:spPr>
            <a:xfrm>
              <a:off x="7862040" y="1832400"/>
              <a:ext cx="32508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4"/>
            <p:cNvSpPr/>
            <p:nvPr/>
          </p:nvSpPr>
          <p:spPr>
            <a:xfrm>
              <a:off x="8255520" y="1841040"/>
              <a:ext cx="32472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5"/>
            <p:cNvSpPr/>
            <p:nvPr/>
          </p:nvSpPr>
          <p:spPr>
            <a:xfrm>
              <a:off x="7881480" y="846360"/>
              <a:ext cx="32472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6"/>
            <p:cNvSpPr/>
            <p:nvPr/>
          </p:nvSpPr>
          <p:spPr>
            <a:xfrm>
              <a:off x="7511040" y="366120"/>
              <a:ext cx="325080" cy="280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Object 37"/>
              <p:cNvSpPr txBox="1"/>
              <p:nvPr/>
            </p:nvSpPr>
            <p:spPr>
              <a:xfrm>
                <a:off x="716040" y="5803920"/>
                <a:ext cx="3432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q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9" name="AutoShape 38"/>
          <p:cNvSpPr/>
          <p:nvPr/>
        </p:nvSpPr>
        <p:spPr>
          <a:xfrm>
            <a:off x="4203720" y="5537160"/>
            <a:ext cx="317520" cy="876240"/>
          </a:xfrm>
          <a:custGeom>
            <a:avLst/>
            <a:gdLst>
              <a:gd name="textAreaLeft" fmla="*/ 42480 w 317520"/>
              <a:gd name="textAreaRight" fmla="*/ 275040 w 317520"/>
              <a:gd name="textAreaTop" fmla="*/ 153360 h 876240"/>
              <a:gd name="textAreaBottom" fmla="*/ 6354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4686480" y="590544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0"/>
              <p:cNvSpPr txBox="1"/>
              <p:nvPr/>
            </p:nvSpPr>
            <p:spPr>
              <a:xfrm>
                <a:off x="5923080" y="5880240"/>
                <a:ext cx="23875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627120" y="317520"/>
                <a:ext cx="3432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q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Text Box 3"/>
          <p:cNvSpPr/>
          <p:nvPr/>
        </p:nvSpPr>
        <p:spPr>
          <a:xfrm>
            <a:off x="4749840" y="101592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4381560" y="609480"/>
            <a:ext cx="317520" cy="1155960"/>
          </a:xfrm>
          <a:custGeom>
            <a:avLst/>
            <a:gdLst>
              <a:gd name="textAreaLeft" fmla="*/ 42480 w 317520"/>
              <a:gd name="textAreaRight" fmla="*/ 275040 w 317520"/>
              <a:gd name="textAreaTop" fmla="*/ 202320 h 1155960"/>
              <a:gd name="textAreaBottom" fmla="*/ 838080 h 11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79440" y="1260360"/>
                <a:ext cx="38275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5683320" y="355680"/>
                <a:ext cx="1785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E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5608800" y="1293840"/>
                <a:ext cx="1755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AutoShape 8"/>
          <p:cNvSpPr/>
          <p:nvPr/>
        </p:nvSpPr>
        <p:spPr>
          <a:xfrm>
            <a:off x="7478640" y="673200"/>
            <a:ext cx="1436760" cy="1174680"/>
          </a:xfrm>
          <a:prstGeom prst="cloudCallout">
            <a:avLst>
              <a:gd name="adj1" fmla="val -43703"/>
              <a:gd name="adj2" fmla="val 53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6200" y="849240"/>
                <a:ext cx="973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Text Box 10"/>
          <p:cNvSpPr/>
          <p:nvPr/>
        </p:nvSpPr>
        <p:spPr>
          <a:xfrm>
            <a:off x="5168880" y="1866960"/>
            <a:ext cx="28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rticles the average energ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7023240" y="2208240"/>
                <a:ext cx="576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2" name="AutoShape 12"/>
          <p:cNvSpPr/>
          <p:nvPr/>
        </p:nvSpPr>
        <p:spPr>
          <a:xfrm>
            <a:off x="4330800" y="1892160"/>
            <a:ext cx="317520" cy="1219320"/>
          </a:xfrm>
          <a:custGeom>
            <a:avLst/>
            <a:gdLst>
              <a:gd name="textAreaLeft" fmla="*/ 42480 w 317520"/>
              <a:gd name="textAreaRight" fmla="*/ 275040 w 317520"/>
              <a:gd name="textAreaTop" fmla="*/ 171360 h 1219320"/>
              <a:gd name="textAreaBottom" fmla="*/ 8701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075" stAng="-5400000" swAng="5400000"/>
                <a:lnTo>
                  <a:pt x="21600" y="12375"/>
                </a:lnTo>
                <a:arcTo wR="21600" hR="6075" stAng="0" swAng="2310125"/>
                <a:lnTo>
                  <a:pt x="7200" y="21253"/>
                </a:lnTo>
                <a:lnTo>
                  <a:pt x="0" y="15300"/>
                </a:lnTo>
                <a:lnTo>
                  <a:pt x="7200" y="8653"/>
                </a:lnTo>
                <a:lnTo>
                  <a:pt x="7200" y="11803"/>
                </a:lnTo>
                <a:arcTo wR="21600" hR="6075" stAng="2310125" swAng="-1729398"/>
                <a:lnTo>
                  <a:pt x="18469" y="9225"/>
                </a:lnTo>
                <a:arcTo wR="21600" hR="6075" stAng="-580727" swAng="-4819273"/>
                <a:close/>
              </a:path>
              <a:path fill="darkenLess" w="21600" h="21600">
                <a:moveTo>
                  <a:pt x="0" y="0"/>
                </a:moveTo>
                <a:arcTo wR="21600" hR="6075" stAng="-5400000" swAng="5400000"/>
                <a:lnTo>
                  <a:pt x="21600" y="12375"/>
                </a:lnTo>
                <a:arcTo wR="21600" hR="6075" stAng="0" swAng="-580727"/>
                <a:lnTo>
                  <a:pt x="18469" y="9225"/>
                </a:lnTo>
                <a:arcTo wR="21600" hR="6075" stAng="-580727" swAng="-481927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3"/>
              <p:cNvSpPr txBox="1"/>
              <p:nvPr/>
            </p:nvSpPr>
            <p:spPr>
              <a:xfrm>
                <a:off x="1335240" y="2390760"/>
                <a:ext cx="2598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4"/>
              <p:cNvSpPr txBox="1"/>
              <p:nvPr/>
            </p:nvSpPr>
            <p:spPr>
              <a:xfrm>
                <a:off x="5970600" y="2671920"/>
                <a:ext cx="1344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5"/>
          <p:cNvSpPr/>
          <p:nvPr/>
        </p:nvSpPr>
        <p:spPr>
          <a:xfrm>
            <a:off x="5073480" y="283680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6"/>
              <p:cNvSpPr txBox="1"/>
              <p:nvPr/>
            </p:nvSpPr>
            <p:spPr>
              <a:xfrm>
                <a:off x="593640" y="5168880"/>
                <a:ext cx="2135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eat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Text Box 17"/>
          <p:cNvSpPr/>
          <p:nvPr/>
        </p:nvSpPr>
        <p:spPr>
          <a:xfrm>
            <a:off x="393840" y="42292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 says for any process the change in entropy has a lower bound of that for a reversible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8"/>
              <p:cNvSpPr txBox="1"/>
              <p:nvPr/>
            </p:nvSpPr>
            <p:spPr>
              <a:xfrm>
                <a:off x="3268800" y="5316480"/>
                <a:ext cx="21715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ea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Text Box 19"/>
          <p:cNvSpPr/>
          <p:nvPr/>
        </p:nvSpPr>
        <p:spPr>
          <a:xfrm>
            <a:off x="5715000" y="5168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 can now say that th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n-recoverable work done will be related to the change in the partition function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419040" y="328140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we have related the entropy of a system of N particles to the molecular partition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6289560" y="2835360"/>
                <a:ext cx="13003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92200" y="1847880"/>
                <a:ext cx="2458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7"/>
          <p:cNvSpPr/>
          <p:nvPr/>
        </p:nvSpPr>
        <p:spPr>
          <a:xfrm>
            <a:off x="393840" y="355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tropy of the Ideal Gas : Sackur-Tetrod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4"/>
          <p:cNvSpPr/>
          <p:nvPr/>
        </p:nvSpPr>
        <p:spPr>
          <a:xfrm>
            <a:off x="847800" y="483876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1"/>
              <p:cNvSpPr txBox="1"/>
              <p:nvPr/>
            </p:nvSpPr>
            <p:spPr>
              <a:xfrm>
                <a:off x="1539720" y="3848040"/>
                <a:ext cx="3897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 Box 94"/>
          <p:cNvSpPr/>
          <p:nvPr/>
        </p:nvSpPr>
        <p:spPr>
          <a:xfrm>
            <a:off x="173160" y="3051000"/>
            <a:ext cx="62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distinguishable particles of the Ideal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299880" y="2668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 : the Canonical partition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4"/>
          <p:cNvSpPr/>
          <p:nvPr/>
        </p:nvSpPr>
        <p:spPr>
          <a:xfrm>
            <a:off x="299880" y="391644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4"/>
          <p:cNvSpPr/>
          <p:nvPr/>
        </p:nvSpPr>
        <p:spPr>
          <a:xfrm>
            <a:off x="393840" y="835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ensemble of configurations that describe the collection of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8"/>
              <p:cNvSpPr txBox="1"/>
              <p:nvPr/>
            </p:nvSpPr>
            <p:spPr>
              <a:xfrm>
                <a:off x="1479600" y="4719600"/>
                <a:ext cx="37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6769080" y="4710240"/>
                <a:ext cx="1930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5"/>
          <p:cNvSpPr/>
          <p:nvPr/>
        </p:nvSpPr>
        <p:spPr>
          <a:xfrm>
            <a:off x="6191280" y="4378320"/>
            <a:ext cx="20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Stirling’s formu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1455840" y="5684760"/>
                <a:ext cx="4522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733400" y="274680"/>
                <a:ext cx="4524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94"/>
          <p:cNvSpPr/>
          <p:nvPr/>
        </p:nvSpPr>
        <p:spPr>
          <a:xfrm>
            <a:off x="393840" y="1065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umber of particles, to get back to numbers of mol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e wr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1805040" y="1760400"/>
                <a:ext cx="4660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1728720" y="2700360"/>
                <a:ext cx="4940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AutoShape 7"/>
          <p:cNvSpPr/>
          <p:nvPr/>
        </p:nvSpPr>
        <p:spPr>
          <a:xfrm>
            <a:off x="6794640" y="1994040"/>
            <a:ext cx="317520" cy="1206360"/>
          </a:xfrm>
          <a:custGeom>
            <a:avLst/>
            <a:gdLst>
              <a:gd name="textAreaLeft" fmla="*/ 42480 w 317520"/>
              <a:gd name="textAreaRight" fmla="*/ 275040 w 317520"/>
              <a:gd name="textAreaTop" fmla="*/ 210960 h 1206360"/>
              <a:gd name="textAreaBottom" fmla="*/ 87480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7277040" y="1920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8053560" y="2271600"/>
                <a:ext cx="834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8"/>
          <p:cNvSpPr/>
          <p:nvPr/>
        </p:nvSpPr>
        <p:spPr>
          <a:xfrm>
            <a:off x="7289640" y="2695680"/>
            <a:ext cx="165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power to which you have to raise e to obtain e itself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4"/>
          <p:cNvSpPr/>
          <p:nvPr/>
        </p:nvSpPr>
        <p:spPr>
          <a:xfrm>
            <a:off x="241200" y="3529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ing the ln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2"/>
              <p:cNvSpPr txBox="1"/>
              <p:nvPr/>
            </p:nvSpPr>
            <p:spPr>
              <a:xfrm>
                <a:off x="2690640" y="3849840"/>
                <a:ext cx="32004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Text Box 8"/>
          <p:cNvSpPr/>
          <p:nvPr/>
        </p:nvSpPr>
        <p:spPr>
          <a:xfrm>
            <a:off x="6235560" y="3984480"/>
            <a:ext cx="2705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 molar gas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4"/>
          <p:cNvSpPr/>
          <p:nvPr/>
        </p:nvSpPr>
        <p:spPr>
          <a:xfrm>
            <a:off x="393840" y="47736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term contains the average energy of the system which we know for the ideal g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5"/>
              <p:cNvSpPr txBox="1"/>
              <p:nvPr/>
            </p:nvSpPr>
            <p:spPr>
              <a:xfrm>
                <a:off x="949320" y="5657760"/>
                <a:ext cx="2365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Text Box 94"/>
          <p:cNvSpPr/>
          <p:nvPr/>
        </p:nvSpPr>
        <p:spPr>
          <a:xfrm>
            <a:off x="3425760" y="58150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molecul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4"/>
          <p:cNvSpPr/>
          <p:nvPr/>
        </p:nvSpPr>
        <p:spPr>
          <a:xfrm>
            <a:off x="6035760" y="58150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m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8"/>
              <p:cNvSpPr txBox="1"/>
              <p:nvPr/>
            </p:nvSpPr>
            <p:spPr>
              <a:xfrm>
                <a:off x="5327640" y="5656320"/>
                <a:ext cx="673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0:19:11Z</dcterms:created>
  <dc:creator>David J. Willock</dc:creator>
  <dc:description/>
  <dc:language>en-US</dc:language>
  <cp:lastModifiedBy>eische</cp:lastModifiedBy>
  <dcterms:modified xsi:type="dcterms:W3CDTF">2012-11-10T19:32:29Z</dcterms:modified>
  <cp:revision>37</cp:revision>
  <dc:subject/>
  <dc:title>CH2323 : Dynamics</dc:title>
</cp:coreProperties>
</file>